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9B9-BB83-4E1A-8561-AD4CC082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456-233C-41CF-A9EC-F3357597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644-DEF8-4CEC-BA5E-1A3E980E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24F-B323-44ED-87A9-3B89EEBA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BD1D-974F-44C9-B278-83DED346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419D-F870-4669-BEC4-097485C5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23E8-DF2E-493E-AA02-B8011611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9AD6-0F6F-4A3D-8788-3EC7846D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5207-162D-4B86-9F3D-F8A45334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14A2-80F3-42FE-A2F6-71045EDF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47ED-9066-4C53-B6EF-5FA40A53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11B-1DA8-4E17-82A1-3F103EC8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E8F1-30DA-43A7-868E-4238CBFB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5C4E-EAE4-4483-A66A-EEF79B53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DD0E-0824-46C3-B3DF-D775E5C2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9427-4EC3-4E7E-B62E-96DEC324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726C-359D-4D23-B3F2-4B55F5FA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7F9-455C-4BE1-A348-D5DF75F7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4E9-6873-4A27-8C59-D563560B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3B2-6E53-428A-BEB3-0B76380C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EC2-1DAE-4323-A5DE-59AB4B2C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263-6ED9-4C03-88C8-FB3CB3AF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792-8977-41EC-85E9-D93FA6AB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9F1-A55C-486D-8AA1-2208A3D4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C566-6AE3-4BBB-9878-9D0AAEA948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4367-0A1F-472B-BC51-1E8FFAE89F2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j0193302"/>
          <p:cNvPicPr/>
          <p:nvPr/>
        </p:nvPicPr>
        <p:blipFill>
          <a:blip r:embed="rId1"/>
          <a:stretch/>
        </p:blipFill>
        <p:spPr>
          <a:xfrm rot="5400000">
            <a:off x="4781880" y="265680"/>
            <a:ext cx="4627440" cy="4095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r>
              <a:rPr b="1" lang="ru-RU" sz="9600" spc="-1" strike="noStrike">
                <a:solidFill>
                  <a:srgbClr val="feec94"/>
                </a:solidFill>
                <a:latin typeface="Georgia"/>
              </a:rPr>
              <a:t>  </a:t>
            </a:r>
            <a:r>
              <a:rPr b="1" lang="ru-RU" sz="9600" spc="-1" strike="noStrike">
                <a:solidFill>
                  <a:srgbClr val="feec94"/>
                </a:solidFill>
                <a:latin typeface="Georgia"/>
              </a:rPr>
              <a:t>Осенняя</a:t>
            </a:r>
            <a:br>
              <a:rPr sz="9600"/>
            </a:br>
            <a:r>
              <a:rPr b="1" lang="ru-RU" sz="9600" spc="-1" strike="noStrike">
                <a:solidFill>
                  <a:srgbClr val="feec94"/>
                </a:solidFill>
                <a:latin typeface="Georgia"/>
              </a:rPr>
              <a:t> экскурсия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1 ц = 100 кг 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  </a:t>
            </a: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1 т = 1000 кг   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1000 кг &gt; 100 кг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1 т 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&gt;</a:t>
            </a: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1 ц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8" descr="C:\Users\днс\Desktop\580918737.gif"/>
          <p:cNvPicPr/>
          <p:nvPr/>
        </p:nvPicPr>
        <p:blipFill>
          <a:blip r:embed="rId1"/>
          <a:stretch/>
        </p:blipFill>
        <p:spPr>
          <a:xfrm flipH="1">
            <a:off x="571320" y="4357800"/>
            <a:ext cx="1742760" cy="2071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35720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Times New Roman"/>
              </a:rPr>
              <a:t>1 т  </a:t>
            </a:r>
            <a:r>
              <a:rPr b="1" lang="en-US" sz="96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ru-RU" sz="9600" spc="-1" strike="noStrike">
                <a:solidFill>
                  <a:srgbClr val="ffff00"/>
                </a:solidFill>
                <a:latin typeface="Times New Roman"/>
              </a:rPr>
              <a:t>10 ц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8" descr="C:\Users\днс\Desktop\580918737.gif"/>
          <p:cNvPicPr/>
          <p:nvPr/>
        </p:nvPicPr>
        <p:blipFill>
          <a:blip r:embed="rId1"/>
          <a:stretch/>
        </p:blipFill>
        <p:spPr>
          <a:xfrm flipH="1">
            <a:off x="428760" y="314316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229600" cy="5675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C:\Users\днс\Desktop\580918737.gif"/>
          <p:cNvPicPr/>
          <p:nvPr/>
        </p:nvPicPr>
        <p:blipFill>
          <a:blip r:embed="rId2"/>
          <a:stretch/>
        </p:blipFill>
        <p:spPr>
          <a:xfrm flipH="1">
            <a:off x="7400880" y="4786200"/>
            <a:ext cx="1743120" cy="20718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ая соединительная линия 4"/>
          <p:cNvSpPr/>
          <p:nvPr/>
        </p:nvSpPr>
        <p:spPr>
          <a:xfrm>
            <a:off x="3214800" y="2286000"/>
            <a:ext cx="571320" cy="1440"/>
          </a:xfrm>
          <a:prstGeom prst="line">
            <a:avLst/>
          </a:prstGeom>
          <a:ln w="9360">
            <a:solidFill>
              <a:srgbClr val="ff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Прямая соединительная линия 16"/>
          <p:cNvSpPr/>
          <p:nvPr/>
        </p:nvSpPr>
        <p:spPr>
          <a:xfrm>
            <a:off x="2286000" y="3500280"/>
            <a:ext cx="357120" cy="1800"/>
          </a:xfrm>
          <a:prstGeom prst="line">
            <a:avLst/>
          </a:prstGeom>
          <a:ln w="9360">
            <a:solidFill>
              <a:srgbClr val="ff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Прямая соединительная линия 20"/>
          <p:cNvSpPr/>
          <p:nvPr/>
        </p:nvSpPr>
        <p:spPr>
          <a:xfrm>
            <a:off x="2428920" y="4714920"/>
            <a:ext cx="285840" cy="1440"/>
          </a:xfrm>
          <a:prstGeom prst="line">
            <a:avLst/>
          </a:prstGeom>
          <a:ln w="9360">
            <a:solidFill>
              <a:srgbClr val="ff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Прямая соединительная линия 32"/>
          <p:cNvSpPr/>
          <p:nvPr/>
        </p:nvSpPr>
        <p:spPr>
          <a:xfrm>
            <a:off x="2643120" y="5857920"/>
            <a:ext cx="71640" cy="1440"/>
          </a:xfrm>
          <a:prstGeom prst="line">
            <a:avLst/>
          </a:prstGeom>
          <a:ln w="9360">
            <a:solidFill>
              <a:srgbClr val="ff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Прямая соединительная линия 36"/>
          <p:cNvSpPr/>
          <p:nvPr/>
        </p:nvSpPr>
        <p:spPr>
          <a:xfrm flipH="1" flipV="1">
            <a:off x="6928920" y="4642920"/>
            <a:ext cx="71640" cy="1800"/>
          </a:xfrm>
          <a:prstGeom prst="line">
            <a:avLst/>
          </a:prstGeom>
          <a:ln w="9360">
            <a:solidFill>
              <a:srgbClr val="ff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Прямая соединительная линия 42"/>
          <p:cNvSpPr/>
          <p:nvPr/>
        </p:nvSpPr>
        <p:spPr>
          <a:xfrm>
            <a:off x="8072280" y="2286000"/>
            <a:ext cx="428760" cy="1440"/>
          </a:xfrm>
          <a:prstGeom prst="line">
            <a:avLst/>
          </a:prstGeom>
          <a:ln w="9360">
            <a:solidFill>
              <a:srgbClr val="ff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3"/>
          <p:cNvSpPr/>
          <p:nvPr/>
        </p:nvSpPr>
        <p:spPr>
          <a:xfrm>
            <a:off x="428760" y="214200"/>
            <a:ext cx="650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0" y="29401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вариант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 вариан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ц = 300 кг              300 кг = 3 ц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т = 3000 кг               3 000 кг = 3 т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т = 30 ц                 30 ц = 3 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8" descr="C:\Users\днс\Desktop\580918737.gif"/>
          <p:cNvPicPr/>
          <p:nvPr/>
        </p:nvPicPr>
        <p:blipFill>
          <a:blip r:embed="rId1"/>
          <a:stretch/>
        </p:blipFill>
        <p:spPr>
          <a:xfrm>
            <a:off x="7215120" y="642960"/>
            <a:ext cx="1647720" cy="2224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:\Users\днс\Desktop\580918737.gif"/>
          <p:cNvPicPr/>
          <p:nvPr/>
        </p:nvPicPr>
        <p:blipFill>
          <a:blip r:embed="rId1"/>
          <a:stretch/>
        </p:blipFill>
        <p:spPr>
          <a:xfrm>
            <a:off x="785880" y="571680"/>
            <a:ext cx="7358040" cy="6000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42876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мые крупные животные планет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2" descr="C:\Documents and Settings\Admin\Рабочий стол\гаврилова\article_zoom_1163_2.jpg"/>
          <p:cNvPicPr/>
          <p:nvPr/>
        </p:nvPicPr>
        <p:blipFill>
          <a:blip r:embed="rId1"/>
          <a:srcRect l="15888" t="13397" r="0" b="0"/>
          <a:stretch/>
        </p:blipFill>
        <p:spPr>
          <a:xfrm>
            <a:off x="1357200" y="1214280"/>
            <a:ext cx="6429600" cy="35719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 flipV="1" rot="10800000">
            <a:off x="2286000" y="4903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Синий к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Длина – более 30 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Масса - от 150 т до 200 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мые крупные животные планет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2" descr="C:\Documents and Settings\Admin\Рабочий стол\400_2.jpg"/>
          <p:cNvPicPr/>
          <p:nvPr/>
        </p:nvPicPr>
        <p:blipFill>
          <a:blip r:embed="rId1"/>
          <a:stretch/>
        </p:blipFill>
        <p:spPr>
          <a:xfrm>
            <a:off x="1285920" y="1071720"/>
            <a:ext cx="7072200" cy="38574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3"/>
          <p:cNvSpPr/>
          <p:nvPr/>
        </p:nvSpPr>
        <p:spPr>
          <a:xfrm>
            <a:off x="22860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Африканский сло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Длина – 6 м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Масса – 7,5 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мые мелкие животные планет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5" descr="C:\Documents and Settings\Admin\Рабочий стол\57966030.jpg"/>
          <p:cNvPicPr/>
          <p:nvPr/>
        </p:nvPicPr>
        <p:blipFill>
          <a:blip r:embed="rId1"/>
          <a:stretch/>
        </p:blipFill>
        <p:spPr>
          <a:xfrm>
            <a:off x="642960" y="107172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Admin\Рабочий стол\41096736.jpg"/>
          <p:cNvPicPr/>
          <p:nvPr/>
        </p:nvPicPr>
        <p:blipFill>
          <a:blip r:embed="rId2"/>
          <a:stretch/>
        </p:blipFill>
        <p:spPr>
          <a:xfrm>
            <a:off x="4857840" y="1071720"/>
            <a:ext cx="3835440" cy="292896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4"/>
          <p:cNvSpPr/>
          <p:nvPr/>
        </p:nvSpPr>
        <p:spPr>
          <a:xfrm>
            <a:off x="1000080" y="464328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Землерой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Длина – от 4 до 5 с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Масса – от 3 до 5 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5000760" y="4643280"/>
            <a:ext cx="35002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олибр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Длина – от 5 до 7 с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Масса – от 1,5 до 2 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500040" y="928800"/>
            <a:ext cx="65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ие зад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1071720" y="3500280"/>
            <a:ext cx="650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с.  45 № 207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8" descr="C:\Users\днс\Desktop\580918737.gif"/>
          <p:cNvPicPr/>
          <p:nvPr/>
        </p:nvPicPr>
        <p:blipFill>
          <a:blip r:embed="rId1"/>
          <a:stretch/>
        </p:blipFill>
        <p:spPr>
          <a:xfrm flipH="1">
            <a:off x="6928920" y="785880"/>
            <a:ext cx="1754280" cy="2367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j0401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3"/>
          <p:cNvSpPr/>
          <p:nvPr/>
        </p:nvSpPr>
        <p:spPr>
          <a:xfrm>
            <a:off x="1357200" y="4057560"/>
            <a:ext cx="77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Норма оценки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6-7 баллов – оценка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«3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8-9 баллов – оценка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«4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Более 10 баллов – оценка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«5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8" descr="C:\Users\днс\Desktop\580918737.gif"/>
          <p:cNvPicPr/>
          <p:nvPr/>
        </p:nvPicPr>
        <p:blipFill>
          <a:blip r:embed="rId2"/>
          <a:stretch/>
        </p:blipFill>
        <p:spPr>
          <a:xfrm flipH="1">
            <a:off x="6643800" y="2071800"/>
            <a:ext cx="2100240" cy="2357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2775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Маршрутный лис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14200" y="1714680"/>
          <a:ext cx="8929800" cy="4555800"/>
        </p:xfrm>
        <a:graphic>
          <a:graphicData uri="http://schemas.openxmlformats.org/drawingml/2006/table">
            <a:tbl>
              <a:tblPr/>
              <a:tblGrid>
                <a:gridCol w="1643040"/>
                <a:gridCol w="3286440"/>
                <a:gridCol w="4000320"/>
              </a:tblGrid>
              <a:tr h="4555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омер задан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ид работ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цени свои знани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 балла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Calibri"/>
                        </a:rPr>
                        <a:t>– если задание выполнено полностью правильно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 балл </a:t>
                      </a:r>
                      <a:r>
                        <a:rPr b="0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Calibri"/>
                        </a:rPr>
                        <a:t>– если задание выполнено полностью, но с ошибками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0 баллов </a:t>
                      </a:r>
                      <a:r>
                        <a:rPr b="0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Calibri"/>
                        </a:rPr>
                        <a:t>– если задание не выполнен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Picture 8" descr="C:\Users\днс\Desktop\580918737.gif"/>
          <p:cNvPicPr/>
          <p:nvPr/>
        </p:nvPicPr>
        <p:blipFill>
          <a:blip r:embed="rId1"/>
          <a:stretch/>
        </p:blipFill>
        <p:spPr>
          <a:xfrm flipH="1">
            <a:off x="142920" y="428760"/>
            <a:ext cx="1743120" cy="2071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eec94"/>
                </a:solidFill>
                <a:latin typeface="Georgia"/>
              </a:rPr>
              <a:t>МОЛОДЦЫ!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Picture 4" descr="C:\Users\днс\Desktop\580918737.gif"/>
          <p:cNvPicPr/>
          <p:nvPr/>
        </p:nvPicPr>
        <p:blipFill>
          <a:blip r:embed="rId1"/>
          <a:stretch/>
        </p:blipFill>
        <p:spPr>
          <a:xfrm>
            <a:off x="1357200" y="2071800"/>
            <a:ext cx="6143760" cy="4286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https://im1-tub-ru.yandex.net/i?id=f17970056521813498206a5c5ee84e83&amp;n=33&amp;h=215&amp;w=148"/>
          <p:cNvPicPr/>
          <p:nvPr/>
        </p:nvPicPr>
        <p:blipFill>
          <a:blip r:embed="rId1"/>
          <a:stretch/>
        </p:blipFill>
        <p:spPr>
          <a:xfrm>
            <a:off x="2571840" y="4071960"/>
            <a:ext cx="1409760" cy="2047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Users\днс\Desktop\580918737.gif"/>
          <p:cNvPicPr/>
          <p:nvPr/>
        </p:nvPicPr>
        <p:blipFill>
          <a:blip r:embed="rId2"/>
          <a:stretch/>
        </p:blipFill>
        <p:spPr>
          <a:xfrm>
            <a:off x="642960" y="214200"/>
            <a:ext cx="7786800" cy="6286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142560"/>
            <a:ext cx="854388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ec94"/>
                </a:solidFill>
                <a:latin typeface="Times New Roman"/>
              </a:rPr>
              <a:t>Тест: Проверь себя.</a:t>
            </a: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1.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2.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3.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4.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5.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6.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C:\Users\днс\Desktop\580918737.gif"/>
          <p:cNvPicPr/>
          <p:nvPr/>
        </p:nvPicPr>
        <p:blipFill>
          <a:blip r:embed="rId1"/>
          <a:stretch/>
        </p:blipFill>
        <p:spPr>
          <a:xfrm flipH="1">
            <a:off x="214200" y="1143000"/>
            <a:ext cx="2500560" cy="3357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j04308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Содержимое 1"/>
          <p:cNvSpPr/>
          <p:nvPr/>
        </p:nvSpPr>
        <p:spPr>
          <a:xfrm>
            <a:off x="0" y="100476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imes New Roman"/>
              </a:rPr>
              <a:t>Тема урока</a:t>
            </a: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«Масса.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Единицы массы.»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8" descr="C:\Users\днс\Desktop\580918737.gif"/>
          <p:cNvPicPr/>
          <p:nvPr/>
        </p:nvPicPr>
        <p:blipFill>
          <a:blip r:embed="rId2"/>
          <a:stretch/>
        </p:blipFill>
        <p:spPr>
          <a:xfrm flipH="1">
            <a:off x="142560" y="428760"/>
            <a:ext cx="2043000" cy="2428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Цели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ознакомиться с новыми единицами массы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записать соотношение  между ними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уметь применять в практической деятельност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8" descr="C:\Users\днс\Desktop\580918737.gif"/>
          <p:cNvPicPr/>
          <p:nvPr/>
        </p:nvPicPr>
        <p:blipFill>
          <a:blip r:embed="rId1"/>
          <a:stretch/>
        </p:blipFill>
        <p:spPr>
          <a:xfrm flipH="1">
            <a:off x="7143840" y="357120"/>
            <a:ext cx="1743120" cy="207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imes New Roman"/>
              </a:rPr>
              <a:t>Центнер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imes New Roman"/>
              </a:rPr>
              <a:t>Тонна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8" descr="C:\Users\днс\Desktop\580918737.gif"/>
          <p:cNvPicPr/>
          <p:nvPr/>
        </p:nvPicPr>
        <p:blipFill>
          <a:blip r:embed="rId1"/>
          <a:stretch/>
        </p:blipFill>
        <p:spPr>
          <a:xfrm flipH="1">
            <a:off x="142920" y="428760"/>
            <a:ext cx="1743120" cy="2071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Times New Roman"/>
              </a:rPr>
              <a:t>Центнер (ц)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Times New Roman"/>
              </a:rPr>
              <a:t>Тонна (т)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8" descr="C:\Users\днс\Desktop\580918737.gif"/>
          <p:cNvPicPr/>
          <p:nvPr/>
        </p:nvPicPr>
        <p:blipFill>
          <a:blip r:embed="rId1"/>
          <a:stretch/>
        </p:blipFill>
        <p:spPr>
          <a:xfrm flipH="1">
            <a:off x="6858000" y="1857240"/>
            <a:ext cx="1743120" cy="207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277560"/>
            <a:ext cx="8229600" cy="15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imes New Roman"/>
              </a:rPr>
              <a:t>1 ц = 100 кг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Содержимое 1"/>
          <p:cNvSpPr/>
          <p:nvPr/>
        </p:nvSpPr>
        <p:spPr>
          <a:xfrm>
            <a:off x="714240" y="3214800"/>
            <a:ext cx="822960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imes New Roman"/>
              </a:rPr>
              <a:t>1 т = 1000 кг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8" descr="C:\Users\днс\Desktop\580918737.gif"/>
          <p:cNvPicPr/>
          <p:nvPr/>
        </p:nvPicPr>
        <p:blipFill>
          <a:blip r:embed="rId1"/>
          <a:stretch/>
        </p:blipFill>
        <p:spPr>
          <a:xfrm flipH="1">
            <a:off x="7143840" y="1357200"/>
            <a:ext cx="1743120" cy="207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0:00:57Z</dcterms:created>
  <dc:creator>Ольга</dc:creator>
  <dc:description/>
  <dc:language>en-US</dc:language>
  <cp:lastModifiedBy>Юлия Бумакова</cp:lastModifiedBy>
  <dcterms:modified xsi:type="dcterms:W3CDTF">2016-10-24T16:01:40Z</dcterms:modified>
  <cp:revision>23</cp:revision>
  <dc:subject/>
  <dc:title>Слайд 1</dc:title>
</cp:coreProperties>
</file>